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1E3EB-9B9C-4792-AC0C-6876F4F0F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1BB2-8276-4699-8973-37A267C4F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DDDFA-9062-4918-B485-97FF968AD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1187D-3BB0-4142-84C2-93B8ABB3B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821F-24BA-4331-9808-DF9FE891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3D611-1E3F-4A8C-AA73-02A4DE0E6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07080-CB72-4238-A0A9-A7F54FCE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677ED-9096-466A-AA59-256872A6F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1A8A-FF54-48D8-A6FF-BF130975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4CDB5-34A6-4AD8-980C-34F2E5A9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8C5A-751B-4C88-A85E-3CA521A2D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C326-2630-4F97-A5D8-3E89F1ED0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A3A7-F24A-4A9B-896B-2C01C9958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oplanets</a:t>
            </a:r>
            <a:br>
              <a:rPr sz="4400"/>
            </a:br>
            <a:r>
              <a:rPr b="0" lang="en-US" sz="2800" spc="-1" strike="noStrike">
                <a:solidFill>
                  <a:srgbClr val="000000"/>
                </a:solidFill>
                <a:latin typeface="Times New Roman"/>
              </a:rPr>
              <a:t>An Introduction to Planetary Bodies</a:t>
            </a:r>
            <a:br>
              <a:rPr sz="2800"/>
            </a:br>
            <a:r>
              <a:rPr b="0" lang="en-US" sz="2800" spc="-1" strike="noStrike">
                <a:solidFill>
                  <a:srgbClr val="000000"/>
                </a:solidFill>
                <a:latin typeface="Times New Roman"/>
              </a:rPr>
              <a:t>Outside Our Solar System</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ke Swans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ear Sk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8487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10 to the 11th stars in our galaxy and 10 to the 9th other galaxies, there are at least 10 to the 20th stars in the universe. Most of them may be accompanied by solar systems. If there are 10 to the 20th solar systems in the universe, and the universe is 10 to the 10th years old -- and if, further, solar systems have formed roughly uniformly in time -- then one solar system is formed every 10 to the negative 10 yr = 3 x 10 to the negative 3 seconds. On the average, a million solar systems are formed in the universe each hour." </a:t>
            </a:r>
            <a:br>
              <a:rPr sz="2400"/>
            </a:br>
            <a:br>
              <a:rPr sz="2400"/>
            </a:br>
            <a:r>
              <a:rPr b="0" lang="en-US" sz="2400" spc="-1" strike="noStrike">
                <a:solidFill>
                  <a:srgbClr val="000000"/>
                </a:solidFill>
                <a:latin typeface="Times New Roman"/>
              </a:rPr>
              <a:t>Carl Sagan and I.S. Shklovsk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560" y="990720"/>
            <a:ext cx="3809880" cy="54100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xistence of planets outside our solar system has been widely accepted by most astronomers for decades, but until recently no direct evidence existed.</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 (unsuccessful) attempts involved detection of a star’s wobble by directly measuring the position of nearby stars in relation to more distant “stationary star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irst successful detections were based on Doppler shifts.</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5" name="PlaceHolder 2"/>
          <p:cNvSpPr>
            <a:spLocks noGrp="1"/>
          </p:cNvSpPr>
          <p:nvPr>
            <p:ph type="title"/>
          </p:nvPr>
        </p:nvSpPr>
        <p:spPr>
          <a:xfrm>
            <a:off x="1752480" y="455760"/>
            <a:ext cx="5562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oplanet Basics</a:t>
            </a:r>
            <a:endParaRPr b="0" lang="en-US" sz="3600" spc="-1" strike="noStrike">
              <a:solidFill>
                <a:srgbClr val="000000"/>
              </a:solidFill>
              <a:latin typeface="Times New Roman"/>
            </a:endParaRPr>
          </a:p>
        </p:txBody>
      </p:sp>
      <p:sp>
        <p:nvSpPr>
          <p:cNvPr id="46"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1995, the first “confirmed” exoplanet was detected around the star 51 Pegasi.</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re than 100 exoplanets have been discovered as of early 2003, most by Doppler-shift, the rest by dimming of the parent star as the planet transits in fron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recent estimate - 30 billion planets in our galaxy alo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ction by Doppler Shift</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219320"/>
            <a:ext cx="815364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planet circles its star, the star wobbles due to the gravitational tug of the plan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obble is greater for large planets, lesser for small plan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obble shifts the light coming from the star back and forth in wavelength (frequency) like the sound of the horn of a passing car – the Doppler Eff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detection method – requires several orbits of the planet to detect the patter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determine the precise mass of the planet due to the possible variations in the orbital p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ction by Transit</a:t>
            </a:r>
            <a:endParaRPr b="0" lang="en-US" sz="3600" spc="-1" strike="noStrike">
              <a:solidFill>
                <a:srgbClr val="000000"/>
              </a:solidFill>
              <a:latin typeface="Times New Roman"/>
            </a:endParaRPr>
          </a:p>
        </p:txBody>
      </p:sp>
      <p:sp>
        <p:nvSpPr>
          <p:cNvPr id="50" name="PlaceHolder 2"/>
          <p:cNvSpPr>
            <a:spLocks noGrp="1"/>
          </p:cNvSpPr>
          <p:nvPr>
            <p:ph/>
          </p:nvPr>
        </p:nvSpPr>
        <p:spPr>
          <a:xfrm>
            <a:off x="380520" y="1219320"/>
            <a:ext cx="81536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 detected by the dimming of light from the star as the planet crosses in front of (transits) the st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ffect caused by transit of smaller companion star so only very slight dimming indicates a plan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rect detection method – requires several orbits of the planet to detect the patter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d with Doppler effect to determine the mass of the planet.  High accuracy since the planet, its star and Earth are directly in lin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amateur telescopes can actually measure the dips in luminosity of the stars/planets already discovered – some efforts underway by amateurs to discover new exoplane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space-based telescopes will attempt to detect small, Earth-like planets by transit meth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SA’s Kepler Mission - approved for 200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s Eddington Mission – around 20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Visual Detection</a:t>
            </a:r>
            <a:endParaRPr b="0" lang="en-US" sz="3600" spc="-1" strike="noStrike">
              <a:solidFill>
                <a:srgbClr val="000000"/>
              </a:solidFill>
              <a:latin typeface="Times New Roman"/>
            </a:endParaRPr>
          </a:p>
        </p:txBody>
      </p:sp>
      <p:sp>
        <p:nvSpPr>
          <p:cNvPr id="52" name="PlaceHolder 2"/>
          <p:cNvSpPr>
            <a:spLocks noGrp="1"/>
          </p:cNvSpPr>
          <p:nvPr>
            <p:ph/>
          </p:nvPr>
        </p:nvSpPr>
        <p:spPr>
          <a:xfrm>
            <a:off x="380520" y="1219320"/>
            <a:ext cx="815364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yet successful – none of our current instruments are capable of such dete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ght from the star overwhelms the reflected light from the plan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s with tiny opaque dots in the optics could block the light from the parent sta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 of multiple space telescopes can also provide the resolution required without blocking light from the parent sta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space-based telescopes will attempt to make direct visual observations of exoplane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SA’s Terrestrial Planet Finder Miss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A’s Darwin Mi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Free-floating” Exoplanets</a:t>
            </a:r>
            <a:endParaRPr b="0" lang="en-US" sz="3600" spc="-1" strike="noStrike">
              <a:solidFill>
                <a:srgbClr val="000000"/>
              </a:solidFill>
              <a:latin typeface="Times New Roman"/>
            </a:endParaRPr>
          </a:p>
        </p:txBody>
      </p:sp>
      <p:sp>
        <p:nvSpPr>
          <p:cNvPr id="54" name="PlaceHolder 2"/>
          <p:cNvSpPr>
            <a:spLocks noGrp="1"/>
          </p:cNvSpPr>
          <p:nvPr>
            <p:ph/>
          </p:nvPr>
        </p:nvSpPr>
        <p:spPr>
          <a:xfrm>
            <a:off x="380520" y="1219320"/>
            <a:ext cx="815364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ary mass objects (</a:t>
            </a:r>
            <a:r>
              <a:rPr b="0" lang="en-US" sz="2200" spc="-1" strike="noStrike">
                <a:solidFill>
                  <a:srgbClr val="000000"/>
                </a:solidFill>
                <a:latin typeface="Times New Roman"/>
              </a:rPr>
              <a:t>PMOs</a:t>
            </a:r>
            <a:r>
              <a:rPr b="0" lang="en-US" sz="2000" spc="-1" strike="noStrike">
                <a:solidFill>
                  <a:srgbClr val="000000"/>
                </a:solidFill>
                <a:latin typeface="Times New Roman"/>
              </a:rPr>
              <a:t>) that are not orbiting st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ed with large telescopes and the Hubble Space Telescope in infrared light (radiated he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speculative at this point since determining their mass depends upon knowing their age – they  might be very old brown dwarves (the smallest star-like objects) cooled down to the infrared or they might appear cooler due to intervening gas or du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st techniques combine studies of the temperature as well as the spectrum of radiation coming from the suspected PMO to determine how the gravity of the PMO is affecting atoms in its atmosph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greement on how they might form as they aren’t massive enough to condense on their own from gas and du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haps they form in a normal star system and are flung out of orbit afterw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cting the Signature of Life</a:t>
            </a:r>
            <a:endParaRPr b="0" lang="en-US" sz="3600" spc="-1" strike="noStrike">
              <a:solidFill>
                <a:srgbClr val="000000"/>
              </a:solidFill>
              <a:latin typeface="Times New Roman"/>
            </a:endParaRPr>
          </a:p>
        </p:txBody>
      </p:sp>
      <p:sp>
        <p:nvSpPr>
          <p:cNvPr id="56" name="PlaceHolder 2"/>
          <p:cNvSpPr>
            <a:spLocks noGrp="1"/>
          </p:cNvSpPr>
          <p:nvPr>
            <p:ph/>
          </p:nvPr>
        </p:nvSpPr>
        <p:spPr>
          <a:xfrm>
            <a:off x="380520" y="1219320"/>
            <a:ext cx="815364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attempts based on studying the spectrum of light coming from stars when a planet trans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tudying spectrum, we can detect the existence of specific atoms and molec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guarantee life exists, just that some of the building blocks exi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direct imaging (space-based telescopes) will be able to detect the spectrum produced by the light reflecting from an exopla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540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re Information</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370160"/>
            <a:ext cx="3809880" cy="48765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arch for the Extrasolar Planets (Arizona State Univ.) - </a:t>
            </a:r>
            <a:r>
              <a:rPr b="0" lang="en-US" sz="1600" spc="-1" strike="noStrike">
                <a:solidFill>
                  <a:srgbClr val="000000"/>
                </a:solidFill>
                <a:latin typeface="Times New Roman"/>
              </a:rPr>
              <a:t>http://www.public.asu.edu/~sciref/ exoplnt.htm</a:t>
            </a:r>
            <a:endParaRPr b="0" lang="en-US" sz="16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lifornia and Carnegie Planet Search - </a:t>
            </a:r>
            <a:r>
              <a:rPr b="0" lang="en-US" sz="1600" spc="-1" strike="noStrike">
                <a:solidFill>
                  <a:srgbClr val="000000"/>
                </a:solidFill>
                <a:latin typeface="Times New Roman"/>
              </a:rPr>
              <a:t>http://exoplanets.org/ </a:t>
            </a:r>
            <a:endParaRPr b="0" lang="en-US" sz="16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E (STellar Astrophysics &amp; Research on Exoplanets) Project - </a:t>
            </a:r>
            <a:r>
              <a:rPr b="0" lang="en-US" sz="1600" spc="-1" strike="noStrike">
                <a:solidFill>
                  <a:srgbClr val="000000"/>
                </a:solidFill>
                <a:latin typeface="Times New Roman"/>
              </a:rPr>
              <a:t>http://www.hao.ucar.edu/public/ research/stare/</a:t>
            </a:r>
            <a:endParaRPr b="0" lang="en-US" sz="16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trasolar Planets Encyclopaedia - </a:t>
            </a:r>
            <a:br>
              <a:rPr sz="2000"/>
            </a:br>
            <a:r>
              <a:rPr b="0" lang="en-US" sz="1600" spc="-1" strike="noStrike">
                <a:solidFill>
                  <a:srgbClr val="000000"/>
                </a:solidFill>
                <a:latin typeface="Times New Roman"/>
              </a:rPr>
              <a:t>http://cfa-www.harvard.edu/planets/</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9" name="PlaceHolder 3"/>
          <p:cNvSpPr>
            <a:spLocks noGrp="1"/>
          </p:cNvSpPr>
          <p:nvPr>
            <p:ph/>
          </p:nvPr>
        </p:nvSpPr>
        <p:spPr>
          <a:xfrm>
            <a:off x="4647960" y="1370160"/>
            <a:ext cx="3809880" cy="48765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SA’s Kepler Mission - </a:t>
            </a:r>
            <a:r>
              <a:rPr b="0" lang="en-US" sz="1600" spc="-1" strike="noStrike">
                <a:solidFill>
                  <a:srgbClr val="000000"/>
                </a:solidFill>
                <a:latin typeface="Times New Roman"/>
              </a:rPr>
              <a:t>http://www.kepler.arc.nasa.gov/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Space Agency’s Eddington Mission - </a:t>
            </a:r>
            <a:r>
              <a:rPr b="0" lang="en-US" sz="1600" spc="-1" strike="noStrike">
                <a:solidFill>
                  <a:srgbClr val="000000"/>
                </a:solidFill>
                <a:latin typeface="Times New Roman"/>
              </a:rPr>
              <a:t>http://sci.esa.int/home/eddingt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SA’s Terrestrial Planet Finder Mission - </a:t>
            </a:r>
            <a:r>
              <a:rPr b="0" lang="en-US" sz="1600" spc="-1" strike="noStrike">
                <a:solidFill>
                  <a:srgbClr val="000000"/>
                </a:solidFill>
                <a:latin typeface="Times New Roman"/>
              </a:rPr>
              <a:t>http://planetquest.jpl.nasa.gov/TPF/ tpf_index.html</a:t>
            </a:r>
            <a:endParaRPr b="0" lang="en-US" sz="16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Space Agency’s Darwin Mission - </a:t>
            </a:r>
            <a:r>
              <a:rPr b="0" lang="en-US" sz="1600" spc="-1" strike="noStrike">
                <a:solidFill>
                  <a:srgbClr val="000000"/>
                </a:solidFill>
                <a:latin typeface="Times New Roman"/>
              </a:rPr>
              <a:t>http://sci.esa.int/home/darw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09:29:45Z</dcterms:created>
  <dc:creator>Michael Swanson</dc:creator>
  <dc:description/>
  <dc:language>en-US</dc:language>
  <cp:lastModifiedBy>Michael W. Swanson</cp:lastModifiedBy>
  <cp:lastPrinted>2001-06-19T14:50:25Z</cp:lastPrinted>
  <dcterms:modified xsi:type="dcterms:W3CDTF">2003-06-02T01:36:28Z</dcterms:modified>
  <cp:revision>56</cp:revision>
  <dc:subject/>
  <dc:title>No Slide Title</dc:title>
</cp:coreProperties>
</file>