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4825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95FE-7398-431F-90C1-E7AB15CCB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6EC9-F0F4-40B6-A34C-6D98B13C3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946F-0A18-43AD-9619-D1C75DA59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EED3-880F-4411-9609-07D078324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EEEA-B65F-4A2E-BD93-20F8A00C8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08D1-BCCC-4C2D-B630-C192C24F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BF01-609A-4CB1-9F25-544DDC9C3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1744-11EC-4D54-B3AF-21772C526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9670-F469-4ED0-B60E-2BBE4DEC4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BE6E-B6AA-40B0-8B42-806679B3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F04D-91DF-4979-A731-22A50FCD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115C-B227-4483-9691-AA90962A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ff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3FA7C-3F3E-40C5-9BE7-548E29C2E2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ff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ters for Astronom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952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ke Swan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ril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ff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3809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lters are designed to block ligh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is inherently darkens the image, so the scope must be able to pull in enough light to still allow you to see the object you are interested i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ue to this fact, small telescope often do not benefit from filter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Moon looks better through a filter in any size telescop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Sun can be viewed directly with the proper filte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752480" y="45576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ter Bas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oonFilter" descr=""/>
          <p:cNvPicPr/>
          <p:nvPr/>
        </p:nvPicPr>
        <p:blipFill>
          <a:blip r:embed="rId1"/>
          <a:stretch/>
        </p:blipFill>
        <p:spPr>
          <a:xfrm>
            <a:off x="7391520" y="838080"/>
            <a:ext cx="1066680" cy="1028880"/>
          </a:xfrm>
          <a:prstGeom prst="rect">
            <a:avLst/>
          </a:prstGeom>
          <a:ln w="0">
            <a:noFill/>
          </a:ln>
        </p:spPr>
      </p:pic>
      <p:pic>
        <p:nvPicPr>
          <p:cNvPr id="46" name="LPFilters" descr=""/>
          <p:cNvPicPr/>
          <p:nvPr/>
        </p:nvPicPr>
        <p:blipFill>
          <a:blip r:embed="rId2"/>
          <a:stretch/>
        </p:blipFill>
        <p:spPr>
          <a:xfrm>
            <a:off x="5105520" y="15238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47" name="ColorFilters" descr=""/>
          <p:cNvPicPr/>
          <p:nvPr/>
        </p:nvPicPr>
        <p:blipFill>
          <a:blip r:embed="rId3"/>
          <a:stretch/>
        </p:blipFill>
        <p:spPr>
          <a:xfrm>
            <a:off x="6553080" y="2590920"/>
            <a:ext cx="2362320" cy="1739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800600" y="4876920"/>
            <a:ext cx="38098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st filters are threaded for attaching to the bottom of eyepieces, the front of diagonals or to the visual back of an SCT telescop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ff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3809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ventional solar filters come in two varieties (glass and Mylar film) and allow us to see sunspots on the surface of the su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st Mylar filters show the sun as a blue disk.  Glass filters generally show the sun in yellow. Baader Solar Film (Mylar) show the sun as a white disk and has the best contras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-Alpha filters are very expensive, but allow us to view the flares and other features in the Sun’s chromospher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752480" y="45576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ar Filt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GlassSolarFilters" descr=""/>
          <p:cNvPicPr/>
          <p:nvPr/>
        </p:nvPicPr>
        <p:blipFill>
          <a:blip r:embed="rId1"/>
          <a:stretch/>
        </p:blipFill>
        <p:spPr>
          <a:xfrm>
            <a:off x="5105520" y="990720"/>
            <a:ext cx="3276360" cy="2506680"/>
          </a:xfrm>
          <a:prstGeom prst="rect">
            <a:avLst/>
          </a:prstGeom>
          <a:ln w="0">
            <a:noFill/>
          </a:ln>
        </p:spPr>
      </p:pic>
      <p:pic>
        <p:nvPicPr>
          <p:cNvPr id="52" name="AstroSolarFilter" descr=""/>
          <p:cNvPicPr/>
          <p:nvPr/>
        </p:nvPicPr>
        <p:blipFill>
          <a:blip r:embed="rId2"/>
          <a:stretch/>
        </p:blipFill>
        <p:spPr>
          <a:xfrm>
            <a:off x="5562720" y="4343400"/>
            <a:ext cx="2895480" cy="2171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181480" y="3269880"/>
            <a:ext cx="3281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se  conventional solar filters mount on the front of the scope.  Never use a solar filter that mounts on the eyepiece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ff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3809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Moon is very bright, especially at lower magnifications.  This makes it difficult to see fine detail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standard lunar filter may block 80% or more of all visible light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polarizing filter uses two polarized elements that can be rotated to vary the amount of light blocke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1752480" y="45576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on Filt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MoonFilter" descr=""/>
          <p:cNvPicPr/>
          <p:nvPr/>
        </p:nvPicPr>
        <p:blipFill>
          <a:blip r:embed="rId1"/>
          <a:stretch/>
        </p:blipFill>
        <p:spPr>
          <a:xfrm>
            <a:off x="6400800" y="1143000"/>
            <a:ext cx="1905120" cy="1838160"/>
          </a:xfrm>
          <a:prstGeom prst="rect">
            <a:avLst/>
          </a:prstGeom>
          <a:ln w="0">
            <a:noFill/>
          </a:ln>
        </p:spPr>
      </p:pic>
      <p:pic>
        <p:nvPicPr>
          <p:cNvPr id="57" name="PolarizingMoonFilter" descr=""/>
          <p:cNvPicPr/>
          <p:nvPr/>
        </p:nvPicPr>
        <p:blipFill>
          <a:blip r:embed="rId2"/>
          <a:stretch/>
        </p:blipFill>
        <p:spPr>
          <a:xfrm>
            <a:off x="4952880" y="3962520"/>
            <a:ext cx="202104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ff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3809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lor filters are mostly used for the planet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y blocking certain wavelengths (colors) of light, they help to bring out faint detai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learn what colors work well for which planets, visit the Learning Center at www.telescope.co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ther than Jupiter and Venus (two very bright objects) color filters will not provide much benefit for scopes smaller than 4.5”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752480" y="45576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lor Filt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ColorFilters" descr=""/>
          <p:cNvPicPr/>
          <p:nvPr/>
        </p:nvPicPr>
        <p:blipFill>
          <a:blip r:embed="rId1"/>
          <a:stretch/>
        </p:blipFill>
        <p:spPr>
          <a:xfrm>
            <a:off x="5257800" y="1295280"/>
            <a:ext cx="2857680" cy="2105280"/>
          </a:xfrm>
          <a:prstGeom prst="rect">
            <a:avLst/>
          </a:prstGeom>
          <a:ln w="0">
            <a:noFill/>
          </a:ln>
        </p:spPr>
      </p:pic>
      <p:pic>
        <p:nvPicPr>
          <p:cNvPr id="61" name="AttachingFilters" descr=""/>
          <p:cNvPicPr/>
          <p:nvPr/>
        </p:nvPicPr>
        <p:blipFill>
          <a:blip r:embed="rId2"/>
          <a:stretch/>
        </p:blipFill>
        <p:spPr>
          <a:xfrm>
            <a:off x="4648320" y="3886200"/>
            <a:ext cx="373356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ff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LPFilters" descr=""/>
          <p:cNvPicPr/>
          <p:nvPr/>
        </p:nvPicPr>
        <p:blipFill>
          <a:blip r:embed="rId1"/>
          <a:stretch/>
        </p:blipFill>
        <p:spPr>
          <a:xfrm>
            <a:off x="7086600" y="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3809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igned to pass only certain wavelengths of light in order to show faint objects while blocking manmade light and skyglow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roadband filters allow most light to pass, but block wavelengths commonly produced by exterior lighting.  They improve most faint object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rrowband filters block much more light, but pass the light emitted by many faint nebula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1752480" y="45576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ep Sky Filt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523880"/>
            <a:ext cx="381024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xygen III (O-III) filters block all but the one specific wavelength common to just a few nebulae (the Veil nebula for example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ydrogen Beta (H-Beta) filters block all but the one specific wavelength common to just a few nebulae (the Horsehead and California nebula for example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se filters will not provide much benefit for scopes smaller than 6”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ff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ear Skies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2T09:29:45Z</dcterms:created>
  <dc:creator>Michael Swanson</dc:creator>
  <dc:description/>
  <dc:language>en-US</dc:language>
  <cp:lastModifiedBy>Michael Swanson</cp:lastModifiedBy>
  <cp:lastPrinted>2001-06-19T14:50:25Z</cp:lastPrinted>
  <dcterms:modified xsi:type="dcterms:W3CDTF">2002-04-13T03:50:37Z</dcterms:modified>
  <cp:revision>50</cp:revision>
  <dc:subject/>
  <dc:title>No Slide Title</dc:title>
</cp:coreProperties>
</file>