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4825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44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036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760" y="-360"/>
            <a:ext cx="29700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17080" y="692280"/>
            <a:ext cx="4621320" cy="346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040" y="4387680"/>
            <a:ext cx="5025960" cy="41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75360"/>
            <a:ext cx="297036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760" y="8775360"/>
            <a:ext cx="29700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6AC80-0015-4367-A77A-9AB274E686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17440" y="692280"/>
            <a:ext cx="4621320" cy="34653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040" y="4387680"/>
            <a:ext cx="5025960" cy="41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yond the planets and the Moon, how do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you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decide what to vie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17440" y="692280"/>
            <a:ext cx="4621320" cy="34653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040" y="4387680"/>
            <a:ext cx="5025960" cy="41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the Messier and Caldwell objects are also objects found in the NGC (mostly) and IC catalo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dwell Catalog – a 2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entury compilation of objects assembled by Sir Patrick Caldwell-Moore (more commonly known as Patrick Moor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schel 400 – a selection of the over 2,500 DSO’s observed and cataloged by Sir William Herschel in the late 1700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GC and IC catalogs were compiled by J.L.E. Dreyer in the later 1800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2BB2-2A15-4EEB-A141-0DC16A528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829E-6A70-4617-A361-0683EF92A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D8A8-57A9-4957-B3D1-FDA56787E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BA78-E59F-4370-8136-7F13455FB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7684-678E-48A2-A87E-D036F297D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EA7D-A037-442E-B5EB-8EAD84DC2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0506-99D3-44A2-A7EE-FA12EF09A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9720-BFE1-47B1-8D7B-AF606BE9E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A4B6-9C85-439A-B72D-69A3B874C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D713-FD88-42C7-BA55-FCC9A7D80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72CC-9550-4B70-B033-EE616629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2129-59EF-4743-9702-C9B6AA28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ff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CC062-759F-4FE6-816F-8AAA6A7AF1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eds.org/messier/xtra/similar/catalogs.html" TargetMode="External"/><Relationship Id="rId2" Type="http://schemas.openxmlformats.org/officeDocument/2006/relationships/hyperlink" Target="http://www.seds.org/messier/xtra/similar/catalogs.html" TargetMode="External"/><Relationship Id="rId3" Type="http://schemas.openxmlformats.org/officeDocument/2006/relationships/hyperlink" Target="http://www.seds.org/messier/xtra/similar/catalogs.html" TargetMode="External"/><Relationship Id="rId4" Type="http://schemas.openxmlformats.org/officeDocument/2006/relationships/slideLayout" Target="../slideLayouts/slideLayout4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p-i.net/skychart/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nexstarsite.com/" TargetMode="External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ff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ning Observing S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952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ke Swan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ff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ing What Can Be Seen in Your 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752480" y="1143000"/>
            <a:ext cx="5584680" cy="3919680"/>
            <a:chOff x="1752480" y="1143000"/>
            <a:chExt cx="5584680" cy="3919680"/>
          </a:xfrm>
        </p:grpSpPr>
        <p:grpSp>
          <p:nvGrpSpPr>
            <p:cNvPr id="52" name=""/>
            <p:cNvGrpSpPr/>
            <p:nvPr/>
          </p:nvGrpSpPr>
          <p:grpSpPr>
            <a:xfrm>
              <a:off x="1757160" y="1145160"/>
              <a:ext cx="5575320" cy="3914640"/>
              <a:chOff x="1757160" y="1145160"/>
              <a:chExt cx="5575320" cy="3914640"/>
            </a:xfrm>
          </p:grpSpPr>
          <p:grpSp>
            <p:nvGrpSpPr>
              <p:cNvPr id="53" name=""/>
              <p:cNvGrpSpPr/>
              <p:nvPr/>
            </p:nvGrpSpPr>
            <p:grpSpPr>
              <a:xfrm>
                <a:off x="1757160" y="1145160"/>
                <a:ext cx="1565280" cy="326160"/>
                <a:chOff x="1757160" y="1145160"/>
                <a:chExt cx="1565280" cy="326160"/>
              </a:xfrm>
            </p:grpSpPr>
            <p:sp>
              <p:nvSpPr>
                <p:cNvPr id="54" name=""/>
                <p:cNvSpPr/>
                <p:nvPr/>
              </p:nvSpPr>
              <p:spPr>
                <a:xfrm>
                  <a:off x="1825560" y="1145160"/>
                  <a:ext cx="1428480" cy="32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Instrument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1757160" y="1145160"/>
                  <a:ext cx="1565280" cy="32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" name=""/>
              <p:cNvGrpSpPr/>
              <p:nvPr/>
            </p:nvGrpSpPr>
            <p:grpSpPr>
              <a:xfrm>
                <a:off x="3322440" y="1145160"/>
                <a:ext cx="1565280" cy="326160"/>
                <a:chOff x="3322440" y="1145160"/>
                <a:chExt cx="1565280" cy="326160"/>
              </a:xfrm>
            </p:grpSpPr>
            <p:sp>
              <p:nvSpPr>
                <p:cNvPr id="57" name=""/>
                <p:cNvSpPr/>
                <p:nvPr/>
              </p:nvSpPr>
              <p:spPr>
                <a:xfrm>
                  <a:off x="3390840" y="1145160"/>
                  <a:ext cx="1428480" cy="32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Apertur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3322440" y="1145160"/>
                  <a:ext cx="1565280" cy="32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" name=""/>
              <p:cNvGrpSpPr/>
              <p:nvPr/>
            </p:nvGrpSpPr>
            <p:grpSpPr>
              <a:xfrm>
                <a:off x="4887720" y="1145160"/>
                <a:ext cx="2444760" cy="326160"/>
                <a:chOff x="4887720" y="1145160"/>
                <a:chExt cx="2444760" cy="32616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4956120" y="1145160"/>
                  <a:ext cx="2307960" cy="32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Limiting Magnitud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4887720" y="1145160"/>
                  <a:ext cx="2444760" cy="32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" name=""/>
              <p:cNvGrpSpPr/>
              <p:nvPr/>
            </p:nvGrpSpPr>
            <p:grpSpPr>
              <a:xfrm>
                <a:off x="1757160" y="1471320"/>
                <a:ext cx="1565280" cy="326160"/>
                <a:chOff x="1757160" y="1471320"/>
                <a:chExt cx="1565280" cy="32616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1825560" y="1471320"/>
                  <a:ext cx="1428480" cy="32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Naked ey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1757160" y="1471320"/>
                  <a:ext cx="1565280" cy="32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" name=""/>
              <p:cNvGrpSpPr/>
              <p:nvPr/>
            </p:nvGrpSpPr>
            <p:grpSpPr>
              <a:xfrm>
                <a:off x="3322440" y="1471320"/>
                <a:ext cx="1565280" cy="326160"/>
                <a:chOff x="3322440" y="1471320"/>
                <a:chExt cx="1565280" cy="32616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3390840" y="1471320"/>
                  <a:ext cx="1428480" cy="32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about 7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3322440" y="1471320"/>
                  <a:ext cx="1565280" cy="32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4887720" y="1471320"/>
                <a:ext cx="2444760" cy="326160"/>
                <a:chOff x="4887720" y="1471320"/>
                <a:chExt cx="2444760" cy="32616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4956120" y="1471320"/>
                  <a:ext cx="2307960" cy="32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4887720" y="1471320"/>
                  <a:ext cx="2444760" cy="32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" name=""/>
              <p:cNvGrpSpPr/>
              <p:nvPr/>
            </p:nvGrpSpPr>
            <p:grpSpPr>
              <a:xfrm>
                <a:off x="1757160" y="1797480"/>
                <a:ext cx="1565280" cy="326160"/>
                <a:chOff x="1757160" y="1797480"/>
                <a:chExt cx="1565280" cy="326160"/>
              </a:xfrm>
            </p:grpSpPr>
            <p:sp>
              <p:nvSpPr>
                <p:cNvPr id="72" name=""/>
                <p:cNvSpPr/>
                <p:nvPr/>
              </p:nvSpPr>
              <p:spPr>
                <a:xfrm>
                  <a:off x="1825560" y="1797480"/>
                  <a:ext cx="1428480" cy="32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Binocular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1757160" y="1797480"/>
                  <a:ext cx="1565280" cy="32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3322440" y="1797480"/>
                <a:ext cx="1565280" cy="326160"/>
                <a:chOff x="3322440" y="1797480"/>
                <a:chExt cx="1565280" cy="32616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3390840" y="1797480"/>
                  <a:ext cx="1428480" cy="32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50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3322440" y="1797480"/>
                  <a:ext cx="1565280" cy="32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" name=""/>
              <p:cNvGrpSpPr/>
              <p:nvPr/>
            </p:nvGrpSpPr>
            <p:grpSpPr>
              <a:xfrm>
                <a:off x="4887720" y="1797480"/>
                <a:ext cx="2444760" cy="326160"/>
                <a:chOff x="4887720" y="1797480"/>
                <a:chExt cx="2444760" cy="32616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4956120" y="1797480"/>
                  <a:ext cx="2307960" cy="32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9.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4887720" y="1797480"/>
                  <a:ext cx="2444760" cy="32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" name=""/>
              <p:cNvGrpSpPr/>
              <p:nvPr/>
            </p:nvGrpSpPr>
            <p:grpSpPr>
              <a:xfrm>
                <a:off x="1757160" y="2123640"/>
                <a:ext cx="1565280" cy="326160"/>
                <a:chOff x="1757160" y="2123640"/>
                <a:chExt cx="1565280" cy="32616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1825560" y="2123640"/>
                  <a:ext cx="1428480" cy="32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Telescopes: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1757160" y="2123640"/>
                  <a:ext cx="1565280" cy="32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" name=""/>
              <p:cNvGrpSpPr/>
              <p:nvPr/>
            </p:nvGrpSpPr>
            <p:grpSpPr>
              <a:xfrm>
                <a:off x="3322440" y="2123640"/>
                <a:ext cx="1565280" cy="326160"/>
                <a:chOff x="3322440" y="2123640"/>
                <a:chExt cx="1565280" cy="32616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3390840" y="2123640"/>
                  <a:ext cx="1428480" cy="32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3322440" y="2123640"/>
                  <a:ext cx="1565280" cy="32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4887720" y="2123640"/>
                <a:ext cx="2444760" cy="326160"/>
                <a:chOff x="4887720" y="2123640"/>
                <a:chExt cx="2444760" cy="32616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4956120" y="2123640"/>
                  <a:ext cx="2307960" cy="32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4887720" y="2123640"/>
                  <a:ext cx="2444760" cy="32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1757160" y="2449800"/>
                <a:ext cx="1565280" cy="326160"/>
                <a:chOff x="1757160" y="2449800"/>
                <a:chExt cx="1565280" cy="32616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1825560" y="2449800"/>
                  <a:ext cx="1428480" cy="32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1757160" y="2449800"/>
                  <a:ext cx="1565280" cy="32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3322440" y="2449800"/>
                <a:ext cx="1565280" cy="326160"/>
                <a:chOff x="3322440" y="2449800"/>
                <a:chExt cx="1565280" cy="32616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3390840" y="2449800"/>
                  <a:ext cx="1428480" cy="32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60 mm (2.4 in.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3322440" y="2449800"/>
                  <a:ext cx="1565280" cy="32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4887720" y="2449800"/>
                <a:ext cx="2444760" cy="326160"/>
                <a:chOff x="4887720" y="2449800"/>
                <a:chExt cx="2444760" cy="32616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4956120" y="2449800"/>
                  <a:ext cx="2307960" cy="32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10.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4887720" y="2449800"/>
                  <a:ext cx="2444760" cy="32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1757160" y="2776320"/>
                <a:ext cx="1565280" cy="326160"/>
                <a:chOff x="1757160" y="2776320"/>
                <a:chExt cx="1565280" cy="32616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825560" y="2776320"/>
                  <a:ext cx="1428480" cy="32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757160" y="2776320"/>
                  <a:ext cx="1565280" cy="32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3322440" y="2776320"/>
                <a:ext cx="1565280" cy="326160"/>
                <a:chOff x="3322440" y="2776320"/>
                <a:chExt cx="1565280" cy="32616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3390840" y="2776320"/>
                  <a:ext cx="1428480" cy="32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80 mm (3.1 in.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3322440" y="2776320"/>
                  <a:ext cx="1565280" cy="32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4887720" y="2776320"/>
                <a:ext cx="2444760" cy="326160"/>
                <a:chOff x="4887720" y="2776320"/>
                <a:chExt cx="2444760" cy="32616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4956120" y="2776320"/>
                  <a:ext cx="2307960" cy="32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11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4887720" y="2776320"/>
                  <a:ext cx="2444760" cy="32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1757160" y="3102480"/>
                <a:ext cx="1565280" cy="326160"/>
                <a:chOff x="1757160" y="3102480"/>
                <a:chExt cx="1565280" cy="32616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1825560" y="3102480"/>
                  <a:ext cx="1428480" cy="32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1757160" y="3102480"/>
                  <a:ext cx="1565280" cy="32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3322440" y="3102480"/>
                <a:ext cx="1565280" cy="326160"/>
                <a:chOff x="3322440" y="3102480"/>
                <a:chExt cx="1565280" cy="32616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3390840" y="3102480"/>
                  <a:ext cx="1428480" cy="32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4 in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3322440" y="3102480"/>
                  <a:ext cx="1565280" cy="32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4887720" y="3102480"/>
                <a:ext cx="2444760" cy="326160"/>
                <a:chOff x="4887720" y="3102480"/>
                <a:chExt cx="2444760" cy="32616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4956120" y="3102480"/>
                  <a:ext cx="2307960" cy="32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11.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4887720" y="3102480"/>
                  <a:ext cx="2444760" cy="32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757160" y="3428640"/>
                <a:ext cx="1565280" cy="326160"/>
                <a:chOff x="1757160" y="3428640"/>
                <a:chExt cx="1565280" cy="32616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825560" y="3428640"/>
                  <a:ext cx="1428480" cy="32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757160" y="3428640"/>
                  <a:ext cx="1565280" cy="32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3322440" y="3428640"/>
                <a:ext cx="1565280" cy="326160"/>
                <a:chOff x="3322440" y="3428640"/>
                <a:chExt cx="1565280" cy="32616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3390840" y="3428640"/>
                  <a:ext cx="1428480" cy="32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114 mm (4.5 in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322440" y="3428640"/>
                  <a:ext cx="1565280" cy="32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4887720" y="3428640"/>
                <a:ext cx="2444760" cy="326160"/>
                <a:chOff x="4887720" y="3428640"/>
                <a:chExt cx="2444760" cy="32616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4956120" y="3428640"/>
                  <a:ext cx="2307960" cy="32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1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4887720" y="3428640"/>
                  <a:ext cx="2444760" cy="32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1757160" y="3754800"/>
                <a:ext cx="1565280" cy="326160"/>
                <a:chOff x="1757160" y="3754800"/>
                <a:chExt cx="1565280" cy="32616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1825560" y="3754800"/>
                  <a:ext cx="1428480" cy="32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1757160" y="3754800"/>
                  <a:ext cx="1565280" cy="32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3322440" y="3754800"/>
                <a:ext cx="1565280" cy="326160"/>
                <a:chOff x="3322440" y="3754800"/>
                <a:chExt cx="1565280" cy="32616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3390840" y="3754800"/>
                  <a:ext cx="1428480" cy="32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5 in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3322440" y="3754800"/>
                  <a:ext cx="1565280" cy="32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4887720" y="3754800"/>
                <a:ext cx="2444760" cy="326160"/>
                <a:chOff x="4887720" y="3754800"/>
                <a:chExt cx="2444760" cy="32616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956120" y="3754800"/>
                  <a:ext cx="2307960" cy="32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12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887720" y="3754800"/>
                  <a:ext cx="2444760" cy="32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1757160" y="4080960"/>
                <a:ext cx="1565280" cy="326160"/>
                <a:chOff x="1757160" y="4080960"/>
                <a:chExt cx="1565280" cy="32616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1825560" y="4080960"/>
                  <a:ext cx="1428480" cy="32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1757160" y="4080960"/>
                  <a:ext cx="1565280" cy="32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3322440" y="4080960"/>
                <a:ext cx="1565280" cy="326160"/>
                <a:chOff x="3322440" y="4080960"/>
                <a:chExt cx="1565280" cy="32616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3390840" y="4080960"/>
                  <a:ext cx="1428480" cy="32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8 in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322440" y="4080960"/>
                  <a:ext cx="1565280" cy="32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4887720" y="4080960"/>
                <a:ext cx="2444760" cy="326160"/>
                <a:chOff x="4887720" y="4080960"/>
                <a:chExt cx="2444760" cy="32616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956120" y="4080960"/>
                  <a:ext cx="2307960" cy="32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13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887720" y="4080960"/>
                  <a:ext cx="2444760" cy="32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1757160" y="4407480"/>
                <a:ext cx="1565280" cy="326160"/>
                <a:chOff x="1757160" y="4407480"/>
                <a:chExt cx="1565280" cy="32616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1825560" y="4407480"/>
                  <a:ext cx="1428480" cy="32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757160" y="4407480"/>
                  <a:ext cx="1565280" cy="32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3322440" y="4407480"/>
                <a:ext cx="1565280" cy="326160"/>
                <a:chOff x="3322440" y="4407480"/>
                <a:chExt cx="1565280" cy="32616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3390840" y="4407480"/>
                  <a:ext cx="1428480" cy="32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11 in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3322440" y="4407480"/>
                  <a:ext cx="1565280" cy="32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4887720" y="4407480"/>
                <a:ext cx="2444760" cy="326160"/>
                <a:chOff x="4887720" y="4407480"/>
                <a:chExt cx="2444760" cy="32616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4956120" y="4407480"/>
                  <a:ext cx="2307960" cy="32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1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4887720" y="4407480"/>
                  <a:ext cx="2444760" cy="32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1757160" y="4733640"/>
                <a:ext cx="1565280" cy="326160"/>
                <a:chOff x="1757160" y="4733640"/>
                <a:chExt cx="1565280" cy="32616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1825560" y="4733640"/>
                  <a:ext cx="1428480" cy="32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1757160" y="4733640"/>
                  <a:ext cx="1565280" cy="32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3322440" y="4733640"/>
                <a:ext cx="1565280" cy="326160"/>
                <a:chOff x="3322440" y="4733640"/>
                <a:chExt cx="1565280" cy="32616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3390840" y="4733640"/>
                  <a:ext cx="1428480" cy="32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14 in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3322440" y="4733640"/>
                  <a:ext cx="1565280" cy="32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4887720" y="4733640"/>
                <a:ext cx="2444760" cy="326160"/>
                <a:chOff x="4887720" y="4733640"/>
                <a:chExt cx="2444760" cy="32616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4956120" y="4733640"/>
                  <a:ext cx="2307960" cy="32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14.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4887720" y="4733640"/>
                  <a:ext cx="2444760" cy="32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1" name=""/>
            <p:cNvSpPr/>
            <p:nvPr/>
          </p:nvSpPr>
          <p:spPr>
            <a:xfrm>
              <a:off x="1752480" y="1143000"/>
              <a:ext cx="5584680" cy="39196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457200" y="5410080"/>
            <a:ext cx="82296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ky conditions – transparency, light pollution, phase of the Mo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rface brightness of larger ob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ff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essier Catalog – 110 of the best deep sky objects (DS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aldwell Catalog – 109 interesting objects beyond Mess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Herschel 400 – 400 of the best DSOs – a great continuing project for the intermediate ob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w General Catalog (NGC) - 7,840 objects cataloged (and many observed) by J.L.E. Drey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x Catalog (IC) - 5,386 objects cataloged (and many observed) by J.L.E. Drey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ous lists compiled by amateur astronomers can be found across the Internet.  The SEDS web site hosts a compilation of such lists at: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3399"/>
                </a:solidFill>
                <a:uFillTx/>
                <a:latin typeface="Times New Roman"/>
                <a:hlinkClick r:id="rId1"/>
              </a:rPr>
              <a:t>www.seds.org</a:t>
            </a:r>
            <a:r>
              <a:rPr b="0" lang="en-US" sz="2000" spc="-1" strike="noStrike" u="sng">
                <a:solidFill>
                  <a:srgbClr val="003399"/>
                </a:solidFill>
                <a:uFillTx/>
                <a:latin typeface="Times New Roman"/>
                <a:hlinkClick r:id="rId2"/>
              </a:rPr>
              <a:t>/messier/_x000b_</a:t>
            </a:r>
            <a:r>
              <a:rPr b="0" lang="en-US" sz="2000" spc="-1" strike="noStrike" u="sng">
                <a:solidFill>
                  <a:srgbClr val="003399"/>
                </a:solidFill>
                <a:uFillTx/>
                <a:latin typeface="Times New Roman"/>
                <a:hlinkClick r:id="rId3"/>
              </a:rPr>
              <a:t>xtra/similar/catalogs.htm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Well-known Observing Lis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8080" y="5943600"/>
            <a:ext cx="7467840" cy="6426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Messier, Caldwell, NGC, IC and Herschel lists are all available in the Downloads section of our web si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ff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Star Charts, Magazines and Other Printed Resourc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ll-sky charts are fine for casual obser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lases provide details about an area of sk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ous atlases are available with differing level of det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47960" y="15235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gazines provide full-sky charts as well as articles highlighting different objects and areas of the sky each mon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kymaps.com provides a monthly, free full-sky chart with a list of objects of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ff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Samples from Bright Star Atlas 2000.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4836960" cy="50245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4038480" y="1600200"/>
            <a:ext cx="4794480" cy="482904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sp>
        <p:nvSpPr>
          <p:cNvPr id="175" name=""/>
          <p:cNvSpPr/>
          <p:nvPr/>
        </p:nvSpPr>
        <p:spPr>
          <a:xfrm>
            <a:off x="304920" y="632448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10 from www.willbell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304920" y="1092240"/>
            <a:ext cx="5433840" cy="180648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ff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2666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netarium Softwa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omputerized star at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s a virtual view of the night sk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tering allows customization of objects to be displa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Computer Softwa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00400" y="6172200"/>
            <a:ext cx="57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rtes du Ciel – free from </a:t>
            </a:r>
            <a:r>
              <a:rPr b="0" lang="en-US" sz="1800" spc="-1" strike="noStrike" u="sng">
                <a:solidFill>
                  <a:srgbClr val="003399"/>
                </a:solidFill>
                <a:uFillTx/>
                <a:latin typeface="Times New Roman"/>
                <a:hlinkClick r:id="rId1"/>
              </a:rPr>
              <a:t>http://www.ap-i.net/skychart/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3352680" y="1676520"/>
            <a:ext cx="546732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ff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2666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ssion Planning Softwa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lly a “spreadsheet” 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ensive filtering cap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eat for creating observing lists for an eve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Computer Softwa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3352680" y="1828800"/>
            <a:ext cx="5477040" cy="42321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276720" y="617220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Star Observer List – free from </a:t>
            </a:r>
            <a:r>
              <a:rPr b="0" lang="en-US" sz="1800" spc="-1" strike="noStrike" u="sng">
                <a:solidFill>
                  <a:srgbClr val="003399"/>
                </a:solidFill>
                <a:uFillTx/>
                <a:latin typeface="Times New Roman"/>
                <a:hlinkClick r:id="rId2"/>
              </a:rPr>
              <a:t>www.nexstarsite.c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ff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local astronomy clubs sponsor observation programs of club member’s favorite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, a certificate is awarded for viewing most or all of these objec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your local club does not have such a program, the Astronomical League offers observing programs at their web site - www.astroleagu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eague’s observing programs range from naked-eye observation of the Moon to advanced deep sky projec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Astronomy Club Observatio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080" y="5943600"/>
            <a:ext cx="7467840" cy="6426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Ryukyu Astronomy Club offers certificates for observing 70 (club level) or all 110 (expert level) Messier objec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ff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ear Skies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8080" y="5943600"/>
            <a:ext cx="746784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s presentation available in the Downloads section of our web si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2T09:29:45Z</dcterms:created>
  <dc:creator>Michael Swanson</dc:creator>
  <dc:description/>
  <dc:language>en-US</dc:language>
  <cp:lastModifiedBy>Michael W. Swanson</cp:lastModifiedBy>
  <cp:lastPrinted>2001-06-19T14:50:25Z</cp:lastPrinted>
  <dcterms:modified xsi:type="dcterms:W3CDTF">2011-09-29T12:30:33Z</dcterms:modified>
  <cp:revision>75</cp:revision>
  <dc:subject/>
  <dc:title>No Slide Title</dc:title>
</cp:coreProperties>
</file>